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F3BE3-4A14-4040-B7CE-E5B0B19D0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3D9E8-560B-408B-A32B-98DD3DD09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696F7-926F-40D0-99A3-3200AE3EF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EC4A2-44B5-44C8-A578-BE44E6006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56205-065D-4B91-8341-A034529F0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34F28-3E6D-4127-873B-098642C09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44C2A-A9DA-49C5-B26A-E83063B8D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E52DF-CA82-4A1B-87D1-FB85DBDB9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F201B-183F-401A-AFC8-ECFE1AD88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7E270-0F9E-4358-B280-9A34C2284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C54D8-8ED9-49D1-AC55-AFF5578D9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01C36-D4FB-4B7B-8C40-494E707AE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D6970-ECF4-413E-9466-0E0C3EE345F0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uturnArrow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-Tur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066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99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124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Strip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899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Notch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lef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hev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rightArrowCallout">
            <a:avLst>
              <a:gd name="adj1" fmla="val 25002"/>
              <a:gd name="adj2" fmla="val 25000"/>
              <a:gd name="adj3" fmla="val 33335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eftArrowCallout">
            <a:avLst>
              <a:gd name="adj1" fmla="val 25002"/>
              <a:gd name="adj2" fmla="val 25000"/>
              <a:gd name="adj3" fmla="val 33335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upArrowCallout">
            <a:avLst>
              <a:gd name="adj1" fmla="val 50007"/>
              <a:gd name="adj2" fmla="val 50003"/>
              <a:gd name="adj3" fmla="val 16667"/>
              <a:gd name="adj4" fmla="val 666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downArrowCallout">
            <a:avLst>
              <a:gd name="adj1" fmla="val 50007"/>
              <a:gd name="adj2" fmla="val 50003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ircular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95280" y="620640"/>
            <a:ext cx="6264360" cy="2952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leftRightArrow">
            <a:avLst>
              <a:gd name="adj1" fmla="val 50000"/>
              <a:gd name="adj2" fmla="val 3981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0:52:08Z</dcterms:created>
  <dc:creator>tb121644</dc:creator>
  <dc:description/>
  <dc:language>en-US</dc:language>
  <cp:lastModifiedBy>tb121644</cp:lastModifiedBy>
  <dcterms:modified xsi:type="dcterms:W3CDTF">2005-05-25T10:52:24Z</dcterms:modified>
  <cp:revision>1</cp:revision>
  <dc:subject/>
  <dc:title>Slide 1</dc:title>
</cp:coreProperties>
</file>