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3E42-528D-4B06-8830-BBF27E32B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2D21-9749-489E-8187-8DEAED10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4F5839-35AC-405D-BD7A-B7A4E53F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D5065-3D23-497A-B086-3F89F81C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61B01-C210-4A0A-B4C3-30745A92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54DC9-E830-4A22-B8A7-00C17C97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EEBF25-03BD-47B8-A0DA-230EDF09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93D54-1F5D-4D15-AC76-BCF96A4B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CC116-A55F-4842-8B9E-D9B21EAA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1CDB5-566E-463A-B8E7-C528F557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E6FD0-99FD-4E1B-95A9-CA9EC6133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085E7B-E282-4485-B20F-4DC1334C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BFE6-6E86-4FAE-888D-54B595CE2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DB864A-C2E6-417C-888F-2CD3940F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639014-3AEC-42DF-AF25-39C3A51F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6F940C-A3E3-44DA-BC6A-86EB98AA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C92A3F-3D38-422E-B97F-E508AD1E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DF3A9E-C2A6-427C-A8F4-356579EB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A9A4FA-6AD7-4682-AAF3-14EC0A2B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E87A50-5DE4-4CC7-AB58-00D85934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17DA82-CC4C-4568-AABF-76400E2F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9DEF0D-B779-429B-9373-2AA8D9CD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739DB9-8803-4F51-8148-D2080B77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8006-82DC-473B-BF3A-1E6C90395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6FDC04-02A9-47AB-89C1-81D86B9C3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B79CF-CB55-4176-9006-98443CE87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802BF-46F8-4962-8459-0795A44B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23B49-7CDC-401D-BB8D-6955F5CC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9F2AD-0D8F-4E66-8B69-CF9B91FF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0FC3C-EB64-4AA2-90DD-2D38F1DA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47627-A22D-44C4-BAE9-E28CE05C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560AA-D4D9-4527-B03F-FA2D3C63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8A238-5B61-468D-9C14-88FAE43C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D045D-F929-43CF-8E20-E8322E3B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491B-A490-4F5E-B52E-2F9063057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A900D-63CC-4B52-A349-7DC24128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165EE-C032-4334-9C31-8A583E80A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CA911-6439-43D4-9DAB-4095E2EB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C8458-1B31-407A-B5FD-DE267E2D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C33A69-3281-40C4-917B-E53868C0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B7DC27-A610-4690-A19E-6FD21E80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67BDD4-8C6A-4478-99AB-DF2E2609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6E2C6-1313-4950-AD2B-6AA5ABCA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A3AB7F-4B04-4277-A71A-F69FF895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B6654A-A0E2-4E60-9D82-0EFA96E9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4974-8E2C-4D66-9242-93F3A79F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DEC73A-25CD-4C2F-B9BF-CEE82750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6E18E7-D769-406F-8B00-317B1E25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955920-35E3-4931-A066-D3BDC7F4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8BBD93-569B-4F5E-9079-028562E73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4EF314-956D-4868-B59E-A43ED76E2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B6D9-FF16-4C9C-9DE1-A26E39E9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EDA5-C3E1-421E-9901-01EAB2D0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C624-544B-4369-BDFC-B84BF8CD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6C1F-1D20-4E23-B82B-2BDABC35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7B8F-6368-4FB6-A37C-8E5A7CF5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B199-8F66-42C7-8F88-467821D7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4DAE-C749-4B36-9611-0543E04E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51EF-115D-4D34-9CB8-5047FAA4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9DAA-5A8E-490D-8898-21FB43FC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C237-A660-4D72-ABAE-39CEF3E7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DABF-6596-4ADB-AC23-A6A0E28FD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6D4AB-54D5-436D-B2AD-B0D9BA03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C1582-7F78-4AC7-BCC1-7C2C91F7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C5CBD-2F74-4B73-9866-172777C9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6E16F-1990-43CB-9411-43B52D83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786F8-027B-4AC1-BE69-A87615FB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DC13-4B3E-4B29-8C6E-743001C1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CFAD6-ACB4-42C4-8266-2EF19943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B259C-A742-4482-A649-1B46E508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BDC24-7FD9-4760-8546-F7787DC5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9CDE5-0DB8-48A4-B54C-E161C8FD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3AF1E-0688-43A7-A06E-B08DC6D8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670EE-6CF3-41CD-B579-B2620A849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199EA-CFC4-456E-8EB5-4B678153A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E7E9F-CFD5-42F4-896D-5259220AC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8F916-1675-435E-BBE9-BFB30956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85B5E-A530-43F8-A204-90B20B2B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013E-C518-4866-8F7C-DF501A67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7ABDE-B2B7-4240-BE9E-3826E3AC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812D8-B689-41EE-BA4B-146737A0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74973-0611-43DC-8D3B-FEB14CAB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430B8-94A6-472B-B35E-9CAA5B55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77925-93C1-4056-B5CE-0FC45A51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B70D1-173F-4677-AF4B-52D794FC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7FAF1-9AAB-432A-8138-AEB7E214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9C6A3-BC50-4A19-8B71-D02368222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E02F6-FD5D-4CF9-9192-4D59B4CA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E3F935-7FDB-4684-B62F-05DEC58A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99B3-D853-4862-AC3E-FE79ED53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C80273-15CE-45B0-9A81-0D28F5BB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B0A124-D80D-415E-B68A-2888849E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4BB3D4-4049-4D63-956C-4C578B34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B868A1-490E-4643-9947-CDE1A037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D76AC4-D14A-4509-9108-7DC0F4F1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973350-4561-4EA0-BE41-18C281D8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49E2C2-8C0B-447D-B8F1-864178BF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A65764-8679-4B80-8DA5-A97C7512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FAEDBD-3DCA-49C8-BE27-BE87463D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51FCF8-4AB6-48DE-9892-BAD177E1A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2A6D-F871-4037-BDB0-3AA56B15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9E6D50-BDC4-413F-B7FF-E1431CC28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9EDE0-9EDF-456B-9E1D-A38AC5B6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A6E0C-1E1C-4013-82D0-FF5E3B25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25A89-71F9-4D3F-8D62-CD8963D4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3D829-9D0E-4F8A-B7D3-3BDB7AD7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FF69B-F74E-43E8-8A42-B49E5B04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91F90-7511-4E2B-BF9F-7DF49B1A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DD308-AE84-4B8F-BD0B-13544A18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2DD4A-3839-4E5B-8F00-23B665D8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9529A-36D0-4C73-83F8-140F9350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ABF6-8A49-4A2A-8DFD-163DA2C5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60099-6F03-41DB-B8B7-5F00D71B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CA796-9912-40FA-99E5-C4B923F3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D0A29-0A04-4390-9472-39C9AC04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4A73E-0557-4304-98E1-0672CED02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D24DD-BD3D-4261-9581-40063B77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C8F9C-7794-4994-ADC1-025F3A3E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CFE35-9150-4F4B-AC0E-B3D28FE9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9BCD1-5F8F-4656-9DAB-889F673A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F2E95-4843-4406-A641-E8C37F92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0F331-0BB2-4EED-BC21-C6A46A26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F3CA-EA17-457B-8367-081F9677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6CDE4-0D64-49DC-AD68-C7F98481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11353-6BCC-49F4-8CDE-BCA8CDA8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ABA11-49E6-40DF-BD7B-638DB950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CB312-F27C-4D83-8BDC-D2118EA5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CA2BF-15BF-42BF-8F6F-3EE44A4F0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CD898-5EEF-4CDC-AD74-09AEBDEA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9EF9C-D67A-4BD5-8E80-03E045C6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2D496-5488-4C78-B25B-4F1D2419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91B6E-77F4-4FEE-8BAA-DC144F0F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4F06F-A22B-41A7-8955-CE64A2D6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27B6-C610-4AE7-9942-68B04662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B29D9-40DE-465F-A5EC-CD40D9D6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C651E-FA92-4068-B600-B6FF189B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A3F3D-6249-4FA4-9429-891A8D72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33FAC-82E3-4018-8568-E40D3E8A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4930F-63B9-4F0E-A530-9619D3C5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54768-9320-4C00-B6C2-31A26595D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4EEFC-B471-4551-AFB6-9AD73D27A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28F3B1-DCF8-4775-8060-4B7E9C461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85460-29B5-4A31-8971-CD02CC1F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481EE-56EF-45F7-BB31-C3391E18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4EE6-7367-4E06-BAD8-3C3D65DDFBB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089A-7090-4412-9DEA-724B60B9806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FB74-BDA5-4222-BE47-C22F927D89D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053B-683B-4F0E-A811-939802216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DC86-48C6-47DD-A371-ADF106E83037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C496-5732-4ED3-86A3-F153F58C70A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D64F-AB2A-4F93-B115-7513F1E3C9DF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1852-6B5D-4332-9856-418C0F028F8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EECF-51FB-40A4-9E07-B4775F11E1E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C665-6EA8-4392-BF3C-6D52AEBA6DA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F849-09FA-457C-AF9B-DA74A415B76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AF10-61B6-4E93-BEA8-77AA4FAFD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D1E6-751D-46A0-9EF5-69689AB8C00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0AD0-BCBF-407D-9E85-9A19E1DF1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56AD-0F17-4808-95A1-348A83A00B1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B2AF-FC45-4C9D-809D-047DB261D27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909E-C7D5-4C4E-B7FB-CCA7B902C8B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B665-21BC-46F9-B18B-2EE307DA03B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65E8-5900-4995-9504-B38DFCC5643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8E8C-8D56-4268-A4F5-0DD809F982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6AA0-BC65-4D24-B14F-1153055850C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7EE4-2721-46C7-897F-0190BAF2D5C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E9EB-EE82-4BDC-8CE9-28A27D9DCEB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97D4-3190-467F-8C6A-20FBCE708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A2CA-59C3-4BBD-A8EF-112ED21BF3D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D91B2-F376-406F-91F0-07B148088876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57D29-613B-488C-826D-B601B52DFA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8882C33E-55FF-4039-9B42-B57B95C42EE8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23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8A714-6D6E-4180-8E3E-519A230BAC10}" type="slidenum">
              <a:t>3</a:t>
            </a:fld>
          </a:p>
        </p:txBody>
      </p:sp>
    </p:spTree>
  </p:cSld>
  <p:transition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8F056E-1AA9-4A25-90C0-451372DCCEB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5C60CE61-D3EC-4C55-B4D6-91E255AA98DD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3E9E7-B84F-4958-9563-A7A826D4F4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2E73C45C-CFDD-4BEE-9E64-07F0C751A4BC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9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7ADC2-717A-4AF6-A0DA-FE078530BBE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DC541CC7-11A7-4F7D-8D63-70DCCE4E71E6}" type="datetime1">
              <a:rPr lang="en-US"/>
              <a:t>07/29/26</a:t>
            </a:fld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