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91397"/>
        <c:axId val="89511586"/>
      </c:barChart>
      <c:catAx>
        <c:axId val="98191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11586"/>
        <c:crosses val="autoZero"/>
        <c:auto val="1"/>
        <c:lblAlgn val="ctr"/>
        <c:lblOffset val="100"/>
        <c:noMultiLvlLbl val="0"/>
      </c:catAx>
      <c:valAx>
        <c:axId val="89511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1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85B-1F39-40E4-9F91-8A0E4F1C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306-DEE1-4A5A-9267-1F1B15DC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CA2-BA23-46E1-B160-8C29F733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6FA-112F-4479-A5CD-3D60EFF6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126-2421-4001-B581-65EE0884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E0C-1D96-44C7-A37D-FCDEE440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1D9-EA99-4D80-BCBB-CCDA6458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069-7211-451C-9532-89D7F2DF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53E-87C6-4EAA-B5E7-C5D5B516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249-4DB9-4328-AE3C-67295DBC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9B5-938F-4371-8310-16A6F9A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AA2-BFE2-47C3-BE72-70698600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88DF9-2882-46A8-8057-B72FA46C76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