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65119"/>
        <c:axId val="41325117"/>
      </c:barChart>
      <c:catAx>
        <c:axId val="792651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25117"/>
        <c:crosses val="autoZero"/>
        <c:auto val="1"/>
        <c:lblAlgn val="ctr"/>
        <c:lblOffset val="100"/>
        <c:noMultiLvlLbl val="0"/>
      </c:catAx>
      <c:valAx>
        <c:axId val="41325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651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0A2-78CA-4E98-8BCC-79D6E602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7FD6-3685-45C3-8B93-0A67D2FB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0BD-D5E7-4B2F-99A2-17B53024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D12-19B4-4F1A-B264-16EBD5F5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426-38B7-4752-88C7-305CF395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D92-3F98-401F-8C81-C8A15A21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189-4BA1-4C3A-8BA1-5BB5D0C0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C0F-83AE-47EC-8A24-5CB904D2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89F-A170-4316-96AB-A2594F24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5D5-C082-461E-97C2-7AD5C9A4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719-F049-4BB4-BAF6-FD3544AA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F81-19CA-4E41-8D78-C88DFA1A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4B497-6DCF-4A8D-8C28-ACCA2BCF76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