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15333"/>
        <c:axId val="8647321"/>
      </c:barChart>
      <c:catAx>
        <c:axId val="17415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7321"/>
        <c:crosses val="autoZero"/>
        <c:auto val="1"/>
        <c:lblAlgn val="ctr"/>
        <c:lblOffset val="100"/>
        <c:noMultiLvlLbl val="0"/>
      </c:catAx>
      <c:valAx>
        <c:axId val="86473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15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E7F-BD5A-47E8-9561-B2D2195A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B56E-9F7D-4F3A-A4A6-EE8BBEF9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842-7A6E-4EF5-A347-19567468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90F-9F78-4979-AB84-6221D317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71A3-2A2A-4D2B-A529-70BF2134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E26-55D3-4192-8624-96B7A4C3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214A-C579-47F2-A25D-75BA4653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F0F-C245-4A28-8D9E-20A599F2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FBD-703F-42DA-AF6B-95C475A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A63-A73B-4305-BE81-8382A63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D20-4618-43D0-AF75-1B6E962F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67F-E7DE-44C5-AC59-C2438278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58ADE-EB4A-4107-B62D-56729E1846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