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53631"/>
        <c:axId val="59190132"/>
      </c:barChart>
      <c:catAx>
        <c:axId val="969536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0132"/>
        <c:crosses val="autoZero"/>
        <c:auto val="1"/>
        <c:lblAlgn val="ctr"/>
        <c:lblOffset val="100"/>
        <c:noMultiLvlLbl val="0"/>
      </c:catAx>
      <c:valAx>
        <c:axId val="59190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36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52-CF3F-4C72-AD0B-AFFD47FD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B799-B4E9-4567-B822-9FBBB816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70F-2868-4BC6-A54B-9A6C1E41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1EA-D825-4500-96C3-E70B136C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702-F973-4481-A5D8-5701B0CB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D7F3-52AE-4356-AB95-CF6F517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A23-4ADF-4C15-98D7-CBFE345A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2A7-19F1-4A46-920E-F1F0153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34E-D59A-47E5-8BF2-8938565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14F-E369-45A5-BB8A-93767D16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366-F822-45B5-B3B9-FE07D3F1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9AC-0645-40B7-ACC0-3137932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005D6-0A42-4373-BE07-B8AA68E5CE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