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65118"/>
        <c:axId val="41960440"/>
      </c:barChart>
      <c:catAx>
        <c:axId val="22665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60440"/>
        <c:crosses val="autoZero"/>
        <c:auto val="1"/>
        <c:lblAlgn val="ctr"/>
        <c:lblOffset val="100"/>
        <c:noMultiLvlLbl val="0"/>
      </c:catAx>
      <c:valAx>
        <c:axId val="41960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65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EC8-779F-4198-97E9-7DFC6B06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BF4-A3FE-4153-B72A-684FCD5B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748-3929-41E7-B619-CB1A199E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3EC-DE4B-4E4D-8571-10669945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BB3-9639-4FF4-81EC-85269B3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C44-C4A9-4F3D-B55E-9D964ECD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0B8-87AB-48AA-9406-500A8588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A7E-C435-491C-AEF0-8D4885BF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5AD-9094-4461-B63D-1965395B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C6B-0A90-4A63-A36E-8481861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29E-6303-4F85-B9F4-BA86DDFF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699-6EAE-4133-99B6-18827C9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2B977-0FEC-4E6E-ABEE-DB891DEBA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