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9630"/>
        <c:axId val="38216854"/>
      </c:barChart>
      <c:catAx>
        <c:axId val="7689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16854"/>
        <c:crosses val="autoZero"/>
        <c:auto val="1"/>
        <c:lblAlgn val="ctr"/>
        <c:lblOffset val="100"/>
        <c:noMultiLvlLbl val="0"/>
      </c:catAx>
      <c:valAx>
        <c:axId val="38216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9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EE2-14CF-40EB-8216-420A9EC1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B28-189E-47CA-B95C-50BDBE73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F57-5DD8-4AD2-84BA-EA772BB8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B8F-C320-4762-B840-774A0343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093-3E6E-4C5E-BB09-4024241E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A70-9C52-4F55-BB66-C3E2ACBE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114-38D5-40C8-B451-F40F940F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502-65DD-4863-9FA3-2B8DA16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5B9-AC0D-4E10-A767-FFC7DCF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A8F-6BA7-4D3D-89FF-5ED7530B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1A1-D907-4E80-9874-77CBC346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0573-0460-41C8-9047-78001C1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9CE36-3542-4D34-94C2-F030ACBF6F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