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26719"/>
        <c:axId val="38850720"/>
      </c:barChart>
      <c:catAx>
        <c:axId val="41326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50720"/>
        <c:crosses val="autoZero"/>
        <c:auto val="1"/>
        <c:lblAlgn val="ctr"/>
        <c:lblOffset val="100"/>
        <c:noMultiLvlLbl val="0"/>
      </c:catAx>
      <c:valAx>
        <c:axId val="38850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26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308-78AC-4F4B-B319-883D4D53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EF97-0FF1-4BEA-821E-FD3BFB46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630F-0703-4267-AA16-6A27DBDB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8606-6E07-4C19-82F3-413B980C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A59A-1276-4817-8551-57BA066B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160A-7CF9-4F13-97AA-E0A2AA17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21A-CB4A-4310-8883-5257C340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11ED-2A2A-4246-B707-B3641F42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8974-509C-44E4-80B8-17E76DF8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FE8C-A597-4630-825E-679E1843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00F-AFC1-4A89-B2CB-86CB8695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50A-47DC-4135-9342-EA09673E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ED428-4801-4207-A5BE-AA74812DE0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