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84376"/>
        <c:axId val="16973419"/>
      </c:barChart>
      <c:catAx>
        <c:axId val="36843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73419"/>
        <c:crosses val="autoZero"/>
        <c:auto val="1"/>
        <c:lblAlgn val="ctr"/>
        <c:lblOffset val="100"/>
        <c:noMultiLvlLbl val="0"/>
      </c:catAx>
      <c:valAx>
        <c:axId val="169734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43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112B-4465-4505-801B-1DC210411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4630-C7EB-4C47-9C07-0865107A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4508-CB4D-490C-BAF2-727DFD5FA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602A-6A8B-44E9-A07F-54B878124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A959-ED5F-454C-BA50-F68BF99A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7E80-88BA-4E8C-87F7-6228EBA7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6252-F84C-483A-8E60-6BAA51D0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0696-F4AC-4F37-9F00-87C5214B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BEE5-8E8D-482D-906B-CA4FD962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975B-FA4B-4D06-985B-6AE4559A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A109-B0E3-4DA3-88AF-069B7234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3053-EFAC-4FE1-BA1C-97528E34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F6169-425C-4E90-9358-74BE3A008B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