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35602"/>
        <c:axId val="35246619"/>
      </c:barChart>
      <c:catAx>
        <c:axId val="27035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46619"/>
        <c:crosses val="autoZero"/>
        <c:auto val="1"/>
        <c:lblAlgn val="ctr"/>
        <c:lblOffset val="100"/>
        <c:noMultiLvlLbl val="0"/>
      </c:catAx>
      <c:valAx>
        <c:axId val="35246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35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36A-8E12-463C-A245-66BC2512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79D-A61F-40C5-AEB0-9454C024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5E0-1C04-450B-A1E2-FB2E417B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DDF-296C-4820-A989-0E3BE35E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621-4352-4442-BBD8-38F70488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402-CC41-481D-96AF-73794BDA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67C-AAB7-4BC1-9D31-0BEAC875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102-9FB9-40CC-B845-1D234E25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27D-5BBA-4869-AB15-F3742324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D77-4CBE-43D0-ACB0-9673C1A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053-873E-44F8-B252-14B737A5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E8F-7C6E-4C36-ABBC-382EBDB8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3D1A0-5392-45C2-9AA1-AC8FEBF74A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