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24190"/>
        <c:axId val="59564021"/>
      </c:barChart>
      <c:catAx>
        <c:axId val="64241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64021"/>
        <c:crosses val="autoZero"/>
        <c:auto val="1"/>
        <c:lblAlgn val="ctr"/>
        <c:lblOffset val="100"/>
        <c:noMultiLvlLbl val="0"/>
      </c:catAx>
      <c:valAx>
        <c:axId val="595640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41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4994-EDC3-4346-A2BE-1DDC990F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D315-9AF1-4F38-B7E0-82587E36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E2B9-98AE-4326-8526-F5CE45FF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060F-1B15-430F-9062-25C0648D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660E-046F-4FF4-8956-A839B96E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F53C-DAE7-4784-B2BC-BFC231D0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E232-95A6-434D-9DA4-26C1A397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78B8-CFDC-4B0A-81A7-1A6A754E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5EC0-3F56-43C4-9206-6241C5D4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8597-6049-4F05-9FDF-A0AA34A2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E7E1-58B9-47F9-969E-332D19B7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8A3D-CDCB-40C8-9A55-8DDAED39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252BA-EA1F-4425-87C3-ABA9595872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