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077380"/>
        <c:axId val="90972802"/>
      </c:barChart>
      <c:catAx>
        <c:axId val="940773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72802"/>
        <c:crosses val="autoZero"/>
        <c:auto val="1"/>
        <c:lblAlgn val="ctr"/>
        <c:lblOffset val="100"/>
        <c:noMultiLvlLbl val="0"/>
      </c:catAx>
      <c:valAx>
        <c:axId val="909728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773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A7A9-2F89-4D2C-8E5B-99CB58AE4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FADA-C0BE-428C-9633-FC00969A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6898-2147-4DFB-B8F4-6CEEB62A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EE3D-D3DE-40B5-9BD9-8B27877DB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7EB1-DC80-42C5-BD3F-EC2E5780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F1DD-0091-4D61-A073-BCE0B60D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D6C6-FFBA-4544-AE2A-DC12A202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B6BA-C1CF-42BD-8332-77ECB36C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7BA4-7033-4784-BF77-700552E9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3429-935A-4EF9-A3DC-50C9075E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1C76-E2D7-474C-8DBA-7785DB8D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2B3A-5904-440E-B174-123E9BE6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5A47A-1616-4779-A669-08A5AA9335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