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87801"/>
        <c:axId val="52627266"/>
      </c:barChart>
      <c:catAx>
        <c:axId val="983878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27266"/>
        <c:crosses val="autoZero"/>
        <c:auto val="1"/>
        <c:lblAlgn val="ctr"/>
        <c:lblOffset val="100"/>
        <c:noMultiLvlLbl val="0"/>
      </c:catAx>
      <c:valAx>
        <c:axId val="526272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878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814D-CA2F-4A52-A777-8E146C05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E2AC-0D42-41F0-924F-3EBE254E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7DFB-30A8-48C2-BAB2-E766BF11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86A1-F281-4D20-A526-8651D108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7DDC-B6F4-42DC-9F70-B69F429C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B76C-C430-4BFE-9B94-BFB9EA0E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787F-43D7-42AC-B5D9-914F5048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9C1D-1692-4868-8797-15A16E48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CA75-0493-4399-A888-75F5961C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9EF-5E25-4E85-A4F3-246ACF63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D6D9-52B2-45F9-9C0C-1C6658AB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96C6-0EF6-49E3-B055-9EEA218F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D2457-1000-4D61-9720-6233F95CFA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