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16666"/>
        <c:axId val="84580430"/>
      </c:barChart>
      <c:catAx>
        <c:axId val="37916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80430"/>
        <c:crosses val="autoZero"/>
        <c:auto val="1"/>
        <c:lblAlgn val="ctr"/>
        <c:lblOffset val="100"/>
        <c:noMultiLvlLbl val="0"/>
      </c:catAx>
      <c:valAx>
        <c:axId val="8458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6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BB2-BE57-4EE8-9266-4DA6640B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3A1-E40A-4AC4-AECD-D75CA51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740-2FEB-4315-8141-DCAEA4CA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934-9C4F-4F6E-8EF7-EE7EE4C3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BFF-7DAE-403F-B938-9365398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B19-37A9-4F2C-BDD6-2135D789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B55-0467-42F6-A099-CF2AAF82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514-E62C-4B3B-A316-4F0FD17E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3E8-1857-4DA3-B71A-2D6C54B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2C6-D823-4EDA-A5ED-9215C43F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11A-9601-473B-94BE-913299E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BFB-3948-4763-9FE9-5F53A8EF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8D1F-651A-4E92-AF0A-12DB9932E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