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41685"/>
        <c:axId val="34450724"/>
      </c:barChart>
      <c:catAx>
        <c:axId val="24541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50724"/>
        <c:crosses val="autoZero"/>
        <c:auto val="1"/>
        <c:lblAlgn val="ctr"/>
        <c:lblOffset val="100"/>
        <c:noMultiLvlLbl val="0"/>
      </c:catAx>
      <c:valAx>
        <c:axId val="34450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1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BCF-D279-4B09-8A64-96869A39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DF0-7C24-4C67-805D-1F0B3A29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98C-EB2D-40C8-A4D1-5934A91A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6BC-5E63-4D4F-99FC-E671F632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8DD-1A9C-4597-9904-37F3CDF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C85-5B09-4928-8B5F-BFDCC41C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7DB-3CA7-4644-A8CA-6959E175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29C-FC2C-43DB-BD28-5A5EB0DE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F2A-D5C8-4BD5-9D55-66C31F23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7EC-98C4-46B0-8C10-25BF99F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88B-E6E7-4177-A748-06A3A13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798-D1CD-4509-BB80-0390E2B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0BDB9-6950-4374-9FF7-A6D2136188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